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5400" y="3880080"/>
            <a:ext cx="76881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540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488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64960" y="149832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4520" y="149832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5400" y="388008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64960" y="388008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4520" y="388008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74240"/>
            <a:ext cx="8418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540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488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5400" y="3880080"/>
            <a:ext cx="76881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5400" y="3880080"/>
            <a:ext cx="76881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540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488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4960" y="149832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64520" y="149832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5400" y="388008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64960" y="388008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64520" y="3880080"/>
            <a:ext cx="2475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74240"/>
            <a:ext cx="8418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540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4880" y="388008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4880" y="1498320"/>
            <a:ext cx="37515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5400" y="3880080"/>
            <a:ext cx="76881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Click to edit the outline text format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Second Outline Level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Third Outline Level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3" marL="16556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Fourth Outline Level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4" marL="199872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Fifth Outline Level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5" marL="19987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Sixth Outline Level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6" marL="19987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Seventh Outline Level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  <p:sp>
        <p:nvSpPr>
          <p:cNvPr id="1" name=""/>
          <p:cNvSpPr/>
          <p:nvPr/>
        </p:nvSpPr>
        <p:spPr>
          <a:xfrm>
            <a:off x="7053120" y="6153120"/>
            <a:ext cx="188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D3F-1B94-419B-AFFB-1CD591DD7A77}" type="slidenum"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Click to edit the title text format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3" name=""/>
          <p:cNvSpPr/>
          <p:nvPr/>
        </p:nvSpPr>
        <p:spPr>
          <a:xfrm>
            <a:off x="7053120" y="6153120"/>
            <a:ext cx="188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9496-1A28-4BF5-8617-80D51DC93E59}" type="slidenum"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53120" y="6153120"/>
            <a:ext cx="188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C2D2-D98C-46FF-AFF1-AD2255FF5C41}" type="slidenum"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198440" cy="6858000"/>
            <a:chOff x="0" y="0"/>
            <a:chExt cx="1198440" cy="68580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198440" cy="48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2019240"/>
              <a:ext cx="1198440" cy="48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"/>
          <p:cNvSpPr/>
          <p:nvPr/>
        </p:nvSpPr>
        <p:spPr>
          <a:xfrm>
            <a:off x="7053120" y="6153120"/>
            <a:ext cx="188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03E7-18BC-45B8-B8B1-05B01A5119F0}" type="slidenum"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11440" y="0"/>
            <a:ext cx="7184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Arial"/>
              </a:rPr>
              <a:t>Systems Analysis &amp;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Arial"/>
              </a:rPr>
              <a:t>Sixth Ed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1271520" cy="6858000"/>
            <a:chOff x="0" y="0"/>
            <a:chExt cx="1271520" cy="6858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71520" cy="48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2019240"/>
              <a:ext cx="1271520" cy="48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56960" y="2575080"/>
            <a:ext cx="6705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Sabon"/>
              </a:rPr>
              <a:t>Click to edit the title text format</a:t>
            </a:r>
            <a:endParaRPr b="0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pic>
        <p:nvPicPr>
          <p:cNvPr id="50" name="TCTlogo" descr=""/>
          <p:cNvPicPr/>
          <p:nvPr/>
        </p:nvPicPr>
        <p:blipFill>
          <a:blip r:embed="rId4"/>
          <a:srcRect l="0" t="0" r="39458" b="3176"/>
          <a:stretch/>
        </p:blipFill>
        <p:spPr>
          <a:xfrm>
            <a:off x="0" y="0"/>
            <a:ext cx="1282680" cy="118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051680" y="4270320"/>
            <a:ext cx="2092320" cy="258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11440" y="0"/>
            <a:ext cx="7184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Arial"/>
              </a:rPr>
              <a:t>Systems Analysis &amp;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Arial"/>
              </a:rPr>
              <a:t>Sixth Ed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81160" y="4921200"/>
            <a:ext cx="6243840" cy="993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Data Design Terminology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Definition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Entity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able or file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Field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Attribute 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ommon field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Record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Tuple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First Normal Form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A table is in first normal form (1NF) if it does not contain a repeating group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o convert, you must expand the table’s primary key to include the primary key of the repeating group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Second Normal Form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o understand second normal form (2NF), you must understand the concept of functional dependence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Functionally dependent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Second Normal Form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1109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A standard process exists for converting a table from 1NF to 2NF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539720" indent="-457200">
              <a:spcBef>
                <a:spcPts val="499"/>
              </a:spcBef>
              <a:buClr>
                <a:srgbClr val="000000"/>
              </a:buClr>
              <a:buFont typeface="Gill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reate and name a separate table for each field in the existing primary key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539720" indent="-457200">
              <a:spcBef>
                <a:spcPts val="499"/>
              </a:spcBef>
              <a:buClr>
                <a:srgbClr val="000000"/>
              </a:buClr>
              <a:buFont typeface="Gill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reate a new table for each possible combination of the original primary key fields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539720" indent="-457200">
              <a:spcBef>
                <a:spcPts val="499"/>
              </a:spcBef>
              <a:buClr>
                <a:srgbClr val="000000"/>
              </a:buClr>
              <a:buFont typeface="Gill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Study the three tables and place each field with its appropriate primary key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Second Normal Form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Four kinds of problems are found with 1NF designs that do not exist in 2NF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onsider the work necessary to change a particular product’s description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1NF tables can contain inconsistent data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Adding a new product is a problem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Deleting a product is a problem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Third Normal Form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3NF design avoids redundancy and data integrity problems that still can exist in 2NF designs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A table design is in third normal form (3NF) if it is in 2NF and if no nonkey field is dependent on another nonkey field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o convert the table to 3NF, you must remove all fields from the 2NF table that depend on another nonkey field and place them in a new table that uses the nonkey field as a primary key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27560" y="1695600"/>
            <a:ext cx="3619440" cy="3614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45813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A Normalization Example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o show the normalization process, consider the familiar situation, which depicts several entities in a school advising system: ADVISOR, COURSE, and STUDENT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Steps in Database Desig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Create the initial ERD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Assign all data elements to entitie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Create 3NF designs for all tables, taking care to identify all primary, secondary, and foreign key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Verify all data dictionary entrie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After creating your final ERD and normalized table designs, you can transform them into a database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Database Models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Relational Database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he relational model was introduced during the 1970s and became popular because it was flexible and powerful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Because all the tables are linked, a user can request data that meets specific conditions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New entities and attributes can be added at any time without restructuring the entire database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Data Design Terminology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Key Field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Primary key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ombination key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omposite key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oncatenated key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Multi-valued key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Candidate key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Nonkey field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Foreign key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Secondary key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Data Design Terminology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Referential Integrity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Validity checks can help avoid data input errors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5400" y="2593800"/>
            <a:ext cx="5495760" cy="35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Entity-Relationship Diagrams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An entity is a person, place, thing, or event for which data is collected and maintained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Provides an overall view of the system, and a blueprint for creating the physical data structures 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Entity-relationship diagram 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Entity-Relationship Diagrams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41162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Drawing an ERD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he first step is to list the entities that you identified during the fact-finding process and to consider the nature of the relationships that link them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2760" y="1855800"/>
            <a:ext cx="295740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Entity-Relationship Diagrams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Types of Relationship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One-to-one relationship (1:1)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One-to-many relationship (1:M)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Many-to-many relationship (M:N)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Associative entity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Cardinality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ardinality notation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Crow’s foot notation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Unified Modeling Language (UML)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Table design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Involves four stages: unnormalized design, first normal form, second normal form, and third normal form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Most business-related databases must be designed in third normal form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48840" y="1498320"/>
            <a:ext cx="74422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Standard Notation Format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Designing tables is easier if you use a standard notation format</a:t>
            </a:r>
            <a:r>
              <a:rPr b="1" lang="en-US" sz="2400" spc="-1" strike="noStrike">
                <a:solidFill>
                  <a:srgbClr val="001932"/>
                </a:solidFill>
                <a:latin typeface="GillSans"/>
              </a:rPr>
              <a:t> </a:t>
            </a: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to show a table’s structure, fields, and primary key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Example: NAME (</a:t>
            </a:r>
            <a:r>
              <a:rPr b="0" lang="en-US" sz="2400" spc="-1" strike="noStrike" u="sng">
                <a:solidFill>
                  <a:srgbClr val="001932"/>
                </a:solidFill>
                <a:uFillTx/>
                <a:latin typeface="GillSans"/>
              </a:rPr>
              <a:t>FIELD 1</a:t>
            </a: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, FIELD 2, FIELD 3)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05040" y="3711600"/>
            <a:ext cx="6845400" cy="2190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18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32"/>
                </a:solidFill>
                <a:latin typeface="Sabon"/>
              </a:rPr>
              <a:t>Normalization</a:t>
            </a:r>
            <a:endParaRPr b="1" lang="en-US" sz="3600" spc="-1" strike="noStrike">
              <a:solidFill>
                <a:srgbClr val="001932"/>
              </a:solidFill>
              <a:latin typeface="Sabo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5400" y="1498320"/>
            <a:ext cx="76881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GillSan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GillSans"/>
              </a:rPr>
              <a:t>Repeating Groups and Unnormalized Designs</a:t>
            </a:r>
            <a:endParaRPr b="1" lang="en-US" sz="28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Repeating group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  <a:p>
            <a:pPr lvl="2" marL="1312920" indent="-230400"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GillSans"/>
              </a:rPr>
              <a:t>Often occur in manual documents prepared by users</a:t>
            </a:r>
            <a:endParaRPr b="0" lang="en-US" sz="2000" spc="-1" strike="noStrike">
              <a:solidFill>
                <a:srgbClr val="001932"/>
              </a:solidFill>
              <a:latin typeface="GillSans"/>
            </a:endParaRPr>
          </a:p>
          <a:p>
            <a:pPr lvl="1" marL="91296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GillSans"/>
              </a:rPr>
              <a:t>Unnormalized design</a:t>
            </a:r>
            <a:endParaRPr b="0" lang="en-US" sz="2400" spc="-1" strike="noStrike">
              <a:solidFill>
                <a:srgbClr val="001932"/>
              </a:solidFill>
              <a:latin typeface="Gill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18:03:34Z</dcterms:created>
  <dc:creator/>
  <dc:description/>
  <dc:language>en-US</dc:language>
  <cp:lastModifiedBy>x</cp:lastModifiedBy>
  <cp:lastPrinted>1998-04-09T16:43:56Z</cp:lastPrinted>
  <dcterms:modified xsi:type="dcterms:W3CDTF">2007-03-28T14:49:35Z</dcterms:modified>
  <cp:revision>540</cp:revision>
  <dc:subject/>
  <dc:title>Chapter 6 Study Tool</dc:title>
</cp:coreProperties>
</file>